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4DC-8504-4784-A24D-B9A39D95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861-EF5B-437B-AA5C-BD3D3657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B7C-4D03-40CD-B626-1B853F98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74B-F1EB-462E-AD84-E6C4033B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EC39-6FD7-4512-9C7A-783FA9BA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83D-D1D2-4EBC-BCD7-9C867B09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64AC-E559-481D-84BF-971B0EC9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6898-B7AD-491F-9766-78CF8FD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F955-E9D2-4905-8130-FE533E1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BBB9-633F-4489-B4D3-25D0F2E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0D11-481A-417F-B2F6-5FD31B4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02A-4FE4-4A18-A4B1-EB8D9DF5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BC04-8092-42C1-B27C-C42BCAC3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3FCA-DDCE-4F04-8321-AB477D23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BC87-7935-46A6-A8D6-58F9733D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C1D7-CB93-427C-8618-F5145029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D289-070E-425F-B7F9-6814AA9A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958-91F3-4E8B-B26A-B0E3F6A1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2A8-CCEF-415E-83BD-3C047342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A5E-2E18-499D-87A4-2F1C522D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B92-7E30-48DE-A89E-29A7CD2E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F78-807B-46A3-8DA7-C8432633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4EE-7391-4BA6-A8F4-C55974AB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7D7-9ED8-4E9E-90DB-31BB5E8B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C219-DBE0-4CC8-8C7F-E3419B8492C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A7E5-5B0E-4F40-BE0B-681050C27C8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e llamo ____________  clase 802</a:t>
            </a:r>
            <a:br>
              <a:rPr sz="3200"/>
            </a:b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La fecha es el 29 de marzo del 2016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Verdana"/>
              </a:rPr>
              <a:t>Proposito # 63:</a:t>
            </a:r>
            <a:r>
              <a:rPr b="0" lang="es-ES_tradnl" sz="24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Te gustan las fiestas y los concierto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b050"/>
                </a:solidFill>
                <a:latin typeface="Verdana"/>
              </a:rPr>
              <a:t>L.O. –To learn party and concert vocabula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XTO: Leer p. 264-26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 y responde las pregunta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ub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hace el joven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Españ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2. ¿Qué hay en la Gran Vía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hil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3. ¿Dónde esta Ponochile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Bolivi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4. ¿Qué tipo de instrumento musical es la zampoña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5. ¿De quién  es un instrumento tradicional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31880" y="3378240"/>
            <a:ext cx="5019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6699"/>
                </a:solidFill>
                <a:latin typeface="Verdana"/>
              </a:rPr>
              <a:t>El joven canta y toca el contrabajo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790560" y="4145040"/>
            <a:ext cx="6043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6699"/>
                </a:solidFill>
                <a:latin typeface="Verdana"/>
              </a:rPr>
              <a:t>En la Gran Vía hay muchos cines y teatros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58320" y="4830840"/>
            <a:ext cx="68270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6699"/>
                </a:solidFill>
                <a:latin typeface="Verdana"/>
              </a:rPr>
              <a:t>Panochile esta en el desierto de Atacama, Chil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116000" y="5592600"/>
            <a:ext cx="66074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6699"/>
                </a:solidFill>
                <a:latin typeface="Verdana"/>
              </a:rPr>
              <a:t>La zampoña es un tipo de flauta.                         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891720" y="6019920"/>
            <a:ext cx="7061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6699"/>
                </a:solidFill>
                <a:latin typeface="Verdana"/>
              </a:rPr>
              <a:t>Es un instrumento tradicional de los indígenas de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6699"/>
                </a:solidFill>
                <a:latin typeface="Verdana"/>
              </a:rPr>
              <a:t>Los Andes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5:36:11Z</dcterms:created>
  <dc:creator>Helen Zumaeta</dc:creator>
  <dc:description/>
  <dc:language>en-US</dc:language>
  <cp:lastModifiedBy>Helen Zumaeta</cp:lastModifiedBy>
  <cp:lastPrinted>2016-03-29T14:15:30Z</cp:lastPrinted>
  <dcterms:modified xsi:type="dcterms:W3CDTF">2016-03-29T20:10:01Z</dcterms:modified>
  <cp:revision>23</cp:revision>
  <dc:subject/>
  <dc:title>Me llamo ____________  clase 8im La fecha es el 13 de noviembre del 2012</dc:title>
</cp:coreProperties>
</file>